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C2B-38C7-4E0E-9A30-719D1992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84E-FFB7-4488-A6C3-5F5445EE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2A5-7581-4A7F-9443-75ECDB41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4BF-6A2E-4DC2-AE1F-04B92F01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2B5C-FF69-43D8-BD06-C76F3572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6DC6-AF2D-46ED-850E-7C568E60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F538-AF41-4902-BF76-7AB80EBB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3D78-1643-4465-BE47-F03C2E9C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80B2-9DE2-4F45-AF9D-E473BDE2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F98F-35C9-4B61-8E9B-47E7CF29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F5D2-22E3-403F-A140-47C936A4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44E-6D3E-4FFE-912F-40ADCDC9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1355-E458-4E43-A4D7-283788EC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4901-F52B-42D0-A704-8432B9A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5208-24F5-48C4-BA91-ADA01AC9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6B52-D6AE-4F1C-B63E-792FFE9E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A43B-2E75-49BF-9DDA-F0DC0F6E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BD0-21B2-4627-A69C-66AAF654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767-C16F-4B1E-B341-AE167283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EF6-17CD-4DA9-9F81-5E4B7ECC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21F-F57A-4169-95DB-CC9152DA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1C5-6A6E-45EC-B5AA-C8C22775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B90-22C9-4C3A-A7BC-1AC3BBED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D83-4C84-4051-8A54-92EF1423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0D31-DEF9-496B-B6DA-6627A1DC5E1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FF32-AB71-4D0C-A368-A3A0AA48957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21300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11472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572000" y="3141720"/>
            <a:ext cx="4572000" cy="295128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0" y="3141720"/>
            <a:ext cx="4500720" cy="295128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4572000" y="0"/>
            <a:ext cx="4572000" cy="76680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0" y="6093000"/>
            <a:ext cx="4500720" cy="76500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4643280" y="6021360"/>
            <a:ext cx="4500720" cy="83664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2627280" y="0"/>
            <a:ext cx="180036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LAT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-243000"/>
            <a:ext cx="8713800" cy="658044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6114960"/>
            <a:ext cx="8713800" cy="74304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06:28Z</dcterms:created>
  <dc:creator>IES</dc:creator>
  <dc:description/>
  <dc:language>en-US</dc:language>
  <cp:lastModifiedBy>INVES-S6600A</cp:lastModifiedBy>
  <dcterms:modified xsi:type="dcterms:W3CDTF">2010-11-23T13:06:45Z</dcterms:modified>
  <cp:revision>4</cp:revision>
  <dc:subject/>
  <dc:title>Diapositiva 1</dc:title>
</cp:coreProperties>
</file>